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1F9-7DB6-4EFB-AAE7-5E44139C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F59-13A9-429B-9613-67687D05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4D2-10C6-406A-AAA6-04C0B4EC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8B6-B093-4358-9FB3-D6DF7866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6E8-D1B0-432D-819F-586BDC79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EC0-3404-4EBA-AF53-1EE19AF5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994-4E4C-43BA-8C17-400A48D9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B10-0022-4471-BD4F-EE80849D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C5E-99E9-4530-A332-992272C7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F32-8A3C-44BC-A3D9-35DF8D9F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F63-74BB-4683-8F78-817F372A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8B7-8E92-4048-BF17-9DAF54AB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575F-E105-4040-AD43-63597785A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PHY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 studies for the prototype of MEMPHYS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6165720"/>
            <a:ext cx="441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ssandra Tonazzo/A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kos Vassilopoulos/L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5076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280" y="1413000"/>
            <a:ext cx="88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muon, # of opticalphotons per PMT, 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29973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5300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ity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2781360"/>
            <a:ext cx="12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87840" y="2558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9480" y="6432480"/>
            <a:ext cx="36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k muons generated at the detector’s surface with pz / 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81960" cy="4496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268280"/>
            <a:ext cx="8118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propagation effect of OP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of distance between muon’s exit point and detection PMT’s coordinates versus detecti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370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9840" y="26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637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48402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&lt;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5313240"/>
            <a:ext cx="5257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= -1 : later produced OPs are detected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&lt; 0  : relation not c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6720" y="386064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13000"/>
            <a:ext cx="576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3389400"/>
            <a:ext cx="184320" cy="1839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81360" y="3367080"/>
            <a:ext cx="277920" cy="2779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0520" y="3284640"/>
            <a:ext cx="574560" cy="5047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360" y="306864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ed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2880" y="299736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mid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9800" y="551664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g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640" y="299736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cen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9080" y="3213000"/>
            <a:ext cx="574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 simul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67080" y="2276640"/>
            <a:ext cx="4336920" cy="3057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goi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larger/different configurations for MEMPHY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mmer student working on this at AP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41656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s of different electrons samples &amp; new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sion of noise and dig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tector prototype, similar to a MEMPHYS module, is going to provide a solid platform to perform tests on electronic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 trigg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shold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, as far as detector characteristics allow, could be performed f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ex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ght propa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ul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, underwater cherenkov detector simulation &amp; visualization cod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Jean-Eric Campagne, Guy Barrand et al. (based on GEANT4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2x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 water 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different PMTs’ modules simulated at bottom s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2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35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shown 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0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0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avail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refraction &amp;  blacksheet parameters a la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NO detector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5894280"/>
            <a:ext cx="792360" cy="343080"/>
          </a:xfrm>
          <a:prstGeom prst="rightArrow">
            <a:avLst>
              <a:gd name="adj1" fmla="val 50000"/>
              <a:gd name="adj2" fmla="val 577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ector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162252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10 MeV, pz / p = -1, vtx :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62252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 1 GeV, pz / p = -1, vtx : top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5805360"/>
            <a:ext cx="63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ts taken only for optical photons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112840"/>
            <a:ext cx="4156200" cy="318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8520" y="2112840"/>
            <a:ext cx="41562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s genera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k events samples per particle per energ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: E = 1 to 25 M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like sources deployed at the detector c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s: E = 1 GeV, pz/p = -1 (also pz/p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selected mu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ots of the following event (particle) characteristic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PMTs per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opticalphotons per PM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calphotons’ arrival times at P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liminary analyses for vertex reconstruction &amp; light propa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5589720"/>
            <a:ext cx="792000" cy="342720"/>
          </a:xfrm>
          <a:prstGeom prst="rightArrow">
            <a:avLst>
              <a:gd name="adj1" fmla="val 50000"/>
              <a:gd name="adj2" fmla="val 57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352520"/>
            <a:ext cx="4464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electr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" y="181296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85520" y="3284640"/>
            <a:ext cx="202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778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1760" y="134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opticalphotons per PMT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81200" y="191628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41160" y="31417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796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4280" y="134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69880" y="323676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7080" y="44280"/>
            <a:ext cx="32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08000" y="765000"/>
            <a:ext cx="3889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value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MTs per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per PM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arrival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38440"/>
            <a:ext cx="3027240" cy="28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3027240" cy="284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51640" y="76500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reflective a la 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100% absor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0760" y="5799240"/>
            <a:ext cx="1965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4724280"/>
          <a:ext cx="3954600" cy="1308240"/>
        </p:xfrm>
        <a:graphic>
          <a:graphicData uri="http://schemas.openxmlformats.org/drawingml/2006/table">
            <a:tbl>
              <a:tblPr/>
              <a:tblGrid>
                <a:gridCol w="954000"/>
                <a:gridCol w="428760"/>
                <a:gridCol w="428760"/>
                <a:gridCol w="428400"/>
                <a:gridCol w="428760"/>
                <a:gridCol w="428760"/>
                <a:gridCol w="428400"/>
                <a:gridCol w="428760"/>
              </a:tblGrid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 (Me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/ MeV / 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6 (sid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PH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921040" y="1744560"/>
            <a:ext cx="3019320" cy="2836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98560" y="616572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:  MEMPHYNO’s OPs detected per MeV per electron with blacksheet reflective (numbers calculated from the total # of OPs per Energy run not from the aver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9240" y="3068640"/>
            <a:ext cx="34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000" y="5373720"/>
            <a:ext cx="20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MEMP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81200" y="217332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0 Me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vertex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9400" y="1197000"/>
            <a:ext cx="752976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vertex fit based on each  PMT’s timing info: 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here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n / c)  x  D, D = distance between each PMT and fitting point’s coordin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ize estimator E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 find the true vertex of electr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7440" y="35971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99360" y="5305320"/>
            <a:ext cx="362052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 % reconstruction efficiency exa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rue vertex for 10k electrons generated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’s centre with random dir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72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800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36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64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4:10:10Z</dcterms:created>
  <dc:creator>vassilo</dc:creator>
  <dc:description/>
  <dc:language>en-US</dc:language>
  <cp:lastModifiedBy>vassilo</cp:lastModifiedBy>
  <dcterms:modified xsi:type="dcterms:W3CDTF">2007-06-10T21:12:52Z</dcterms:modified>
  <cp:revision>85</cp:revision>
  <dc:subject/>
  <dc:title>Diapositive 1</dc:title>
</cp:coreProperties>
</file>